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27589"/>
        <c:axId val="67363424"/>
      </c:barChart>
      <c:catAx>
        <c:axId val="75927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63424"/>
        <c:crosses val="autoZero"/>
        <c:auto val="1"/>
        <c:lblAlgn val="ctr"/>
        <c:lblOffset val="100"/>
        <c:noMultiLvlLbl val="0"/>
      </c:catAx>
      <c:valAx>
        <c:axId val="67363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27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EC47-9C15-448F-962E-2A6169D4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FF9-E820-4E18-AD38-967C8EF2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2D57-EB25-464A-BE2D-B7272625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67D-F476-432C-A2D3-1C5EB462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318-E9CC-42B2-90E8-07C3DA18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912-8CAA-4180-A962-F2402F0D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5BA-4790-4C6F-BE04-B82177EA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29F-59F0-409D-AFA1-4B61E254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0A0-F368-4D61-AD5D-14C42922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C18-1CB9-46EE-8334-3991EBC5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677-463E-46F6-BF95-16CE8EA6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BCE-41D7-420A-9879-5A0C9288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29BC7-AD13-4640-A37E-82DBDDF747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