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76287"/>
        <c:axId val="19846907"/>
      </c:barChart>
      <c:catAx>
        <c:axId val="33276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46907"/>
        <c:crosses val="autoZero"/>
        <c:auto val="1"/>
        <c:lblAlgn val="ctr"/>
        <c:lblOffset val="100"/>
        <c:noMultiLvlLbl val="0"/>
      </c:catAx>
      <c:valAx>
        <c:axId val="19846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76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DA1-5368-4166-9CB0-9B32624E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9E9-E406-41DE-9AFE-20BF4DF4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CA6B-63AB-454D-B1FB-CFB421B1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348A-2B65-4B63-97C2-697B460A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27F-C055-4D01-9818-E72F274B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1A0-D463-450A-B426-303FAD12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3DB-8105-4656-A5C9-28DD0317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56D-CB37-4E74-A56C-FC81E5C5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FF8-E15E-412B-929D-18C64408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929-92DC-495C-A240-C931FEB6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F013-A230-4DA7-A864-47D58FAD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E55E-8ACB-4643-80C4-F822F44A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0C6C7-2B5C-430C-8CF2-A0F24028DB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