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23182"/>
        <c:axId val="18094582"/>
      </c:barChart>
      <c:catAx>
        <c:axId val="20223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94582"/>
        <c:crosses val="autoZero"/>
        <c:auto val="1"/>
        <c:lblAlgn val="ctr"/>
        <c:lblOffset val="100"/>
        <c:noMultiLvlLbl val="0"/>
      </c:catAx>
      <c:valAx>
        <c:axId val="18094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23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176-0DB7-4BD1-B6D7-07AB1E34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9E4-D1FF-4C52-8E2D-90EDD6F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1E5-BFFE-4E9E-B8FF-B703E1EA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B53-67BC-403F-86EF-F67D607E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E14-B9ED-44C1-8311-DC69F6EE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F10-CE8F-4539-9220-3B43F49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6C5-C45F-41B9-9444-874A115C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75D-A711-4F43-9EAF-C3BA0905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5E1-83CE-4024-B0BE-CB0C9ED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00C-BC62-4F0E-BE41-082E66F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76A-629F-47CD-9E2C-F869363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D15-5941-46CE-B2E7-ACA18D5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32521-DA45-4227-BCF3-A82BB694FB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