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803957"/>
        <c:axId val="91171750"/>
      </c:barChart>
      <c:catAx>
        <c:axId val="568039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171750"/>
        <c:crosses val="autoZero"/>
        <c:auto val="1"/>
        <c:lblAlgn val="ctr"/>
        <c:lblOffset val="100"/>
        <c:noMultiLvlLbl val="0"/>
      </c:catAx>
      <c:valAx>
        <c:axId val="911717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8039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E150-4F96-4E28-B975-8B291651D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24BF-0293-42D0-B8A4-A646D18C4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9D1C-B6CC-412F-B3AD-21F4D8E4C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D06D-62D6-49BA-BE05-07F4BEB20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8866-0793-495C-8FC1-10C8E4754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613E-17AD-4A06-A0E1-01888D793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A598-4A6A-491E-BCD6-B2FB0C480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BF54-6AE2-4C54-B263-0EEFBF875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6044-A5D1-4B5C-B3A4-6C6B9339F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F451-CA15-4185-A744-3C74A86E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82CF-93F1-45FE-BBF8-D1F3966F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0A9C-B93C-4EA2-BC0B-41999756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2693BB-FE97-4FDD-B86E-93D9C650523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