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37622"/>
        <c:axId val="72934348"/>
      </c:barChart>
      <c:catAx>
        <c:axId val="62537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34348"/>
        <c:crosses val="autoZero"/>
        <c:auto val="1"/>
        <c:lblAlgn val="ctr"/>
        <c:lblOffset val="100"/>
        <c:noMultiLvlLbl val="0"/>
      </c:catAx>
      <c:valAx>
        <c:axId val="72934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37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22C-BCD2-48BC-B661-757BF101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592-726B-4AE2-9C66-501CE306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D4C-225A-4E1F-898F-3AF2F5D4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586-4C88-4D49-9B2C-032E71E0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AAD-6067-4422-B393-664A4981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4A6-5A5C-4BC9-9A90-66A2701D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442-41C4-4EEB-A38C-CCD3BEFB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650-BCC2-4320-A0BE-5FAD8D02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6D7-FC59-4957-8257-0D0A04AD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B2D-EBC2-4518-B5E6-706039E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A78-428F-4463-8ED4-DC6D86F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BFF-9F33-44DE-A029-8C64B72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1160-B6B7-4B4D-879B-95A6C9455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