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26743"/>
        <c:axId val="73050020"/>
      </c:barChart>
      <c:catAx>
        <c:axId val="524267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50020"/>
        <c:crosses val="autoZero"/>
        <c:auto val="1"/>
        <c:lblAlgn val="ctr"/>
        <c:lblOffset val="100"/>
        <c:noMultiLvlLbl val="0"/>
      </c:catAx>
      <c:valAx>
        <c:axId val="730500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267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A5B8-018F-4BF1-B5EB-18C606B44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0EF-2C50-4DEA-8628-2EB0C411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E003-97ED-4FBD-9B6D-3446400D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9950-CD6E-4E3B-9E1D-8E3BACF25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797-6E95-439E-880B-D47849F0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9060-9671-4868-B8A3-CD299F53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5A3-BA41-4BAC-94BB-36D70648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F66B-4B24-4481-A026-B870E6A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F874-F21B-439C-9F32-2CD9AB8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690C-2619-4010-930B-4A1BA063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EEAA-D8DB-48F4-9B22-7FE80682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990-D102-4D0B-9902-01E92FD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F9D21-5928-4BF6-AE64-A15DC98217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