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509259"/>
        <c:axId val="11907328"/>
      </c:barChart>
      <c:catAx>
        <c:axId val="665092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07328"/>
        <c:crosses val="autoZero"/>
        <c:auto val="1"/>
        <c:lblAlgn val="ctr"/>
        <c:lblOffset val="100"/>
        <c:noMultiLvlLbl val="0"/>
      </c:catAx>
      <c:valAx>
        <c:axId val="119073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092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D47C-A924-48D0-BCA6-BE7A3FA69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34DA-B1AD-4E66-B31F-46C6C267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C410-2B59-46E7-8533-200D9504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7C83-32E9-4504-9BD7-187B2824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93B5-2E21-45E0-8A94-71A8C2F1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3A8D-F1D7-402D-A80A-AEA7C785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F860-456E-40F5-A19F-1B70048A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D716-E3E1-4DAF-9BBF-A44247E9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9935-F92F-4375-8A85-710F7620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9FD1-A070-4483-8009-5CAE9429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1FF2-A0EF-496D-B6AB-4316CD6D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D63B-2F63-4920-AFEC-7100C813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53B02-5572-4306-8E40-FD64F442A3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