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04964"/>
        <c:axId val="78400948"/>
      </c:barChart>
      <c:catAx>
        <c:axId val="60204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0948"/>
        <c:crosses val="autoZero"/>
        <c:auto val="1"/>
        <c:lblAlgn val="ctr"/>
        <c:lblOffset val="100"/>
        <c:noMultiLvlLbl val="0"/>
      </c:catAx>
      <c:valAx>
        <c:axId val="78400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04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013-CEDD-41E6-96E5-55CCADEF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BB3-D6DA-4C2D-ACC9-CA49CA0D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776-499A-431E-A63A-EC2C6152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DC6-9890-4DAB-9AD7-A566C7BB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029-5C0E-4089-AB22-80739897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878-6E05-41AC-80D4-71D975EA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C58-F087-48E9-9AE3-4F660831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E44-6160-438E-85EB-D97E796F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385-C546-4512-8954-4CB64D8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62F-9899-438F-A0EA-FB4C649A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3C9-C264-444D-9630-9EDF9FD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98A-82C0-407E-94A1-8F9E58EA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98DFA-6E57-40D4-9BE7-7382110A15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