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032881"/>
        <c:axId val="62532773"/>
      </c:barChart>
      <c:catAx>
        <c:axId val="130328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32773"/>
        <c:crosses val="autoZero"/>
        <c:auto val="1"/>
        <c:lblAlgn val="ctr"/>
        <c:lblOffset val="100"/>
        <c:noMultiLvlLbl val="0"/>
      </c:catAx>
      <c:valAx>
        <c:axId val="625327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328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0D9F-F86F-46EF-A21B-33734F554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6700-04A9-4715-B2F1-E49EB170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FEC2-0853-4BDE-81E8-1783E06FD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48F3-5186-459A-A6B0-10174E97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9F60-DF3A-4522-A125-2276BBE7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05B6-672C-477C-9E74-9B2E6936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41CA-87F0-4B77-B067-D091CFDD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7835-EAB3-40B5-AA38-4B48F364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41A5-1904-4291-94FB-E48E1177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98D0-7EDB-4055-9867-124F2A19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2AAE-8AED-4D1C-9D32-ADB898E8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E16F-79FB-47EA-B5EA-FD5E6334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18C2FE-4B7D-482E-AF25-F31231B689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