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64218"/>
        <c:axId val="94000268"/>
      </c:barChart>
      <c:catAx>
        <c:axId val="90764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00268"/>
        <c:crosses val="autoZero"/>
        <c:auto val="1"/>
        <c:lblAlgn val="ctr"/>
        <c:lblOffset val="100"/>
        <c:noMultiLvlLbl val="0"/>
      </c:catAx>
      <c:valAx>
        <c:axId val="94000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4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E08-E8D0-472C-8F24-5C89B37C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8DD-7D9F-4EEE-B367-9C1B728A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2C0-DF25-4794-824A-4946AF3D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470-2301-4E6F-9D3B-2C945DFC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734-E606-4E66-B084-2722A2B1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F1B-4F5C-46CF-BCCC-2BEF1287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199-4F4E-45FD-8513-312DE261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8B4-3641-4A06-82B1-A48CA22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8F1-7CE9-4671-A985-A56AE1F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CE8-3BF7-4F0E-81EB-78F457B6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1FB-5838-46E0-9877-2F052616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BDF-5014-40FE-A1CA-349BB711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CCF75-0A16-45DC-8EB0-DD57022894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