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85403"/>
        <c:axId val="11234338"/>
      </c:barChart>
      <c:catAx>
        <c:axId val="50885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34338"/>
        <c:crosses val="autoZero"/>
        <c:auto val="1"/>
        <c:lblAlgn val="ctr"/>
        <c:lblOffset val="100"/>
        <c:noMultiLvlLbl val="0"/>
      </c:catAx>
      <c:valAx>
        <c:axId val="11234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85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AF7-2A7D-4B19-9422-DAB94624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D52-4EE3-448F-8FD3-BEF53218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6A1-FDD8-474C-8B89-8772E4FF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1B9-D4FE-4DFC-8574-930E6E03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362-6A1E-44D4-A335-29DA63BE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3FB-82FF-4E96-8B69-E09E9AA1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A7F-E577-40A4-96CB-4C601187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D86-D339-42FE-952C-DAEB3174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EE7-7FBB-48E0-8E8A-ED826560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5F3-3CD5-418A-9347-E0748CCB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78D-6A4B-4502-B22A-01FA738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790-D05B-4EFF-8A42-AA2A4E09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B4C99-32EF-486E-A1B8-A70C4A27A9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