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34512"/>
        <c:axId val="47860440"/>
      </c:barChart>
      <c:catAx>
        <c:axId val="39434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60440"/>
        <c:crosses val="autoZero"/>
        <c:auto val="1"/>
        <c:lblAlgn val="ctr"/>
        <c:lblOffset val="100"/>
        <c:noMultiLvlLbl val="0"/>
      </c:catAx>
      <c:valAx>
        <c:axId val="47860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4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88E-F5F6-4CEC-B4A5-7F474598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D21-B961-4D7A-BAE7-DB1FEBC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033-4075-4826-8248-7643E605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86E-F066-4407-A9FC-F5E75A84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EC1-C502-4F01-950D-0C7594B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0E3-BDBC-4DA1-B658-5289FE51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0C4-94E9-47FD-A7A7-DBA113C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E2D-7348-43B2-BBED-A30A6B7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9BE-F78D-4785-9F45-9FE26C6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F53-0D44-41E0-A184-00F5B7D8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07B-A5DE-4013-ACA4-FA3CAFF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650-D4ED-4EDF-8FA0-7BEDD47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A406C-F4A6-4EB3-A547-ABF6BBA748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