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5575"/>
        <c:axId val="57390328"/>
      </c:barChart>
      <c:catAx>
        <c:axId val="5815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90328"/>
        <c:crosses val="autoZero"/>
        <c:auto val="1"/>
        <c:lblAlgn val="ctr"/>
        <c:lblOffset val="100"/>
        <c:noMultiLvlLbl val="0"/>
      </c:catAx>
      <c:valAx>
        <c:axId val="573903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5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81EE-D1FC-45D0-8A24-8EB2D294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AEF9-CAFC-43B9-BB2F-F35E49B5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C0F-F835-4C1E-9A40-67009A84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0CA-C545-448D-B456-9550B103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C1C-1BAA-4468-BDA4-2BC8A796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0D2-64FF-4F98-9FC4-A5776333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308-0577-4DA0-8BF4-57BFDF99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2F9E-3AF8-4AF4-A6A3-9CCB2B53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F98-7CAA-42AF-B022-08855875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9EF-4BA8-44FC-AD6B-9A69791C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D4A-D382-4870-AB72-2EFD7A7A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B86-D622-430C-8E9B-D9527EAE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AEEDD-1B47-49FC-A328-5D50746EA4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