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6192"/>
        <c:axId val="88369003"/>
      </c:barChart>
      <c:catAx>
        <c:axId val="9056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69003"/>
        <c:crosses val="autoZero"/>
        <c:auto val="1"/>
        <c:lblAlgn val="ctr"/>
        <c:lblOffset val="100"/>
        <c:noMultiLvlLbl val="0"/>
      </c:catAx>
      <c:valAx>
        <c:axId val="88369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6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DDA-30F0-4F9F-AE74-2FDA1479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354-A80F-4B45-9C82-4CAD91A5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CDC-D386-4813-9E2A-40FCDD49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642-445E-4798-B5BB-A3FC8CD2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988-37A4-49EA-8223-C1F7CDCD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819-B85C-4689-89E7-005EBD9B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D7A-80D9-49F5-8EFA-31DF7382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A5B-E274-4D91-825C-5EB5A6F6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7CE-35AF-46DC-BAA8-6462B92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CED-7E50-4176-B059-40982FA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9BE-FD4E-4D71-B1BD-E9986555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44C-DE89-410F-9846-0D612EA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8CB21-2214-408A-B206-11160D98C9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