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085408"/>
        <c:axId val="14657452"/>
      </c:barChart>
      <c:catAx>
        <c:axId val="790854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657452"/>
        <c:crosses val="autoZero"/>
        <c:auto val="1"/>
        <c:lblAlgn val="ctr"/>
        <c:lblOffset val="100"/>
        <c:noMultiLvlLbl val="0"/>
      </c:catAx>
      <c:valAx>
        <c:axId val="146574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854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2980-79E0-4B95-9293-435F767E4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0F6E-9560-4BFB-BA88-D6A0F85D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006C-2088-4B1F-93DB-CBA6E38F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9B3-96AA-4E66-8A07-A98C86EE9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C7F-892A-4F25-81D4-8CA080CD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A993-5828-4AF9-B6EA-C59EA8D61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BEE7-13B1-43CD-A3C5-F20AAC77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82D2-2C8A-49BE-899C-B8A2963C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03C5-EABC-400C-B3DF-17D895D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32EB-EECD-44B6-B49B-8709F9D8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6E8-CB40-42C7-AF3C-7C6320CD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9223-57ED-439A-AE98-2A6ED562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530B3-FAB1-4039-9C64-82C74209AD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