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05115"/>
        <c:axId val="90424178"/>
      </c:barChart>
      <c:catAx>
        <c:axId val="88705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24178"/>
        <c:crosses val="autoZero"/>
        <c:auto val="1"/>
        <c:lblAlgn val="ctr"/>
        <c:lblOffset val="100"/>
        <c:noMultiLvlLbl val="0"/>
      </c:catAx>
      <c:valAx>
        <c:axId val="90424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05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ECF-0F50-4942-A78D-71403E79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EE5-E3E8-44F1-B7CB-B3CB4E2E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F5C-A71B-47A7-8923-653B7BC2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BB5-3F25-41F7-9198-DB2D5356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22FE-204B-425A-8670-F66C04EE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5E9-C57E-42C6-BC25-49171F6D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3F8-8649-45FC-8A6C-D2143CCC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343-6D06-448F-A002-0919A4F1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EF8-8412-4A44-8C51-11196CFB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55F-4815-4EE7-ADF6-51E1962B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3EA-11B4-4589-8FA1-1FC26D18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546-1A63-4934-8A85-8D2764B9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CC9BE-D139-46ED-8BB5-5EA0426413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